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6.png" ContentType="image/png"/>
  <Override PartName="/ppt/media/image19.wmf" ContentType="image/x-wmf"/>
  <Override PartName="/ppt/media/image2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15.wmf" ContentType="image/x-wmf"/>
  <Override PartName="/ppt/media/image4.gif" ContentType="image/gif"/>
  <Override PartName="/ppt/media/image11.jpeg" ContentType="image/jpeg"/>
  <Override PartName="/ppt/media/image12.wmf" ContentType="image/x-wmf"/>
  <Override PartName="/ppt/media/image5.gif" ContentType="image/gif"/>
  <Override PartName="/ppt/media/image8.png" ContentType="image/png"/>
  <Override PartName="/ppt/media/image16.wmf" ContentType="image/x-wmf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08E-AE9D-405C-B97D-42E32F75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65C-D739-445C-90B0-10475273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FAE-3E1C-422F-B277-6BEFCA63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0FF-917B-422C-8BBB-C6BB2BFE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8EB-B5DE-4F3F-81F8-80F403F0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98C-5B46-409F-9D30-B4498FD0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A3F-4706-4890-BAF8-0012C13F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AEE-A5DD-4111-B4F3-C388E009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5EE-FB0F-4D1A-A034-FC28E4DD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51E-E71F-4319-8E61-E3168949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085-1A7D-4A2E-98C7-595B54D5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944-5DDE-4DDB-AE32-C165D290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2E17-110A-4F40-972F-2CCA1E5FA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audio" Target="file:///tmp/home/.config/libreoffice/4/user/gallery/j0327538.wav" TargetMode="External"/><Relationship Id="rId4" Type="http://schemas.microsoft.com/office/2007/relationships/media" Target="file:///tmp/home/.config/libreoffice/4/user/gallery/j0327538.wav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gif"/><Relationship Id="rId3" Type="http://schemas.openxmlformats.org/officeDocument/2006/relationships/audio" Target="file:///tmp/home/.config/libreoffice/4/user/gallery/SN00246A.wav" TargetMode="External"/><Relationship Id="rId4" Type="http://schemas.microsoft.com/office/2007/relationships/media" Target="file:///tmp/home/.config/libreoffice/4/user/gallery/SN00246A.wav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file:///tmp/home/.config/libreoffice/4/user/gallery/SN00525A.wav" TargetMode="External"/><Relationship Id="rId3" Type="http://schemas.microsoft.com/office/2007/relationships/media" Target="file:///tmp/home/.config/libreoffice/4/user/gallery/SN00525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file:///tmp/home/.config/libreoffice/4/user/gallery/duckps04.WAV" TargetMode="External"/><Relationship Id="rId3" Type="http://schemas.microsoft.com/office/2007/relationships/media" Target="file:///tmp/home/.config/libreoffice/4/user/gallery/duckps04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ff"/>
                </a:solidFill>
                <a:latin typeface="Catchup"/>
              </a:rPr>
              <a:t>Questions </a:t>
            </a:r>
            <a:br>
              <a:rPr sz="8600"/>
            </a:br>
            <a:r>
              <a:rPr b="1" lang="en-US" sz="8600" spc="-1" strike="noStrike">
                <a:solidFill>
                  <a:srgbClr val="0000ff"/>
                </a:solidFill>
                <a:latin typeface="Catchup"/>
              </a:rPr>
              <a:t>and </a:t>
            </a:r>
            <a:br>
              <a:rPr sz="8600"/>
            </a:br>
            <a:r>
              <a:rPr b="1" lang="en-US" sz="8600" spc="-1" strike="noStrike">
                <a:solidFill>
                  <a:srgbClr val="0000ff"/>
                </a:solidFill>
                <a:latin typeface="Catchup"/>
              </a:rPr>
              <a:t>Statements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362320" y="57913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144936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33920" y="4800600"/>
            <a:ext cx="144936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791320" y="57913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162920" y="4800600"/>
            <a:ext cx="1449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285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296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303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1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312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315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316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318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1981080"/>
            <a:ext cx="579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tchup"/>
              </a:rPr>
              <a:t>When will the football game sta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2895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411480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ask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0960" y="46483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48960" y="1828800"/>
            <a:ext cx="4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59436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51055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5334120"/>
            <a:ext cx="36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tchup"/>
              </a:rPr>
              <a:t>The game will start so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514680" cy="26384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500"/>
                            </p:stCondLst>
                            <p:childTnLst>
                              <p:par>
                                <p:cTn id="4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6305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345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356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363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1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372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375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376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378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6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What color is the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2895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411480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ask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0960" y="46483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86840" y="1981080"/>
            <a:ext cx="4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19320" y="59436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51055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6920" y="5334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tchup"/>
              </a:rPr>
              <a:t>The bus is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803760" cy="28958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3" dur="862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1457280" cy="2057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406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417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424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2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433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436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437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439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2860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The boy is m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20" y="3048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4680" y="411480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tells u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37080" y="464832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does not start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04240" y="1981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tement starts with a capital letter and ends with a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28080" y="51055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not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6248520" y="1828800"/>
            <a:ext cx="1496880" cy="16891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1996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465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476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483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91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492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495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496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498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04920" y="21337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The duck quacks a 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3520" y="3048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4680" y="411480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tells u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37080" y="464832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does not start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66360" y="19890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tement starts with a capital letter and ends with a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28080" y="51055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not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168640" cy="29718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00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2132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tchup"/>
              </a:rPr>
              <a:t>State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18288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statement is a telling sentence.                                It tells the reader someth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3809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57913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tatement starts with a capital letter and ends with a perio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048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ample of a stat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365760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tchup"/>
              </a:rPr>
              <a:t>The ship sailed across the oce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8229600" cy="11210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1028520" cy="7776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79246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4" dur="727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tchup"/>
              </a:rPr>
              <a:t>Ques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175248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question asks the reader something.                       It begins with a question wor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57913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3048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ample of a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556400" y="5105520"/>
            <a:ext cx="1148040" cy="1447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838080" y="365760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tchup"/>
              </a:rPr>
              <a:t>What color is the do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057400" cy="14983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35053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000"/>
                            </p:stCondLst>
                            <p:childTnLst>
                              <p:par>
                                <p:cTn id="7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8" dur="3402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tchup"/>
              </a:rPr>
              <a:t>Ques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question can be answer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0880" y="57913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7556400" y="5105520"/>
            <a:ext cx="1148040" cy="14475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838080" y="281952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tchup"/>
              </a:rPr>
              <a:t>What color is the do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4038480" y="426708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33"/>
                </a:solidFill>
                <a:latin typeface="Arial"/>
              </a:rPr>
              <a:t>The dog is brow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105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ask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3920" y="47242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 rot="391800">
            <a:off x="533520" y="2209320"/>
            <a:ext cx="167616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o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590920" y="2438280"/>
            <a:ext cx="2361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257800" y="2743200"/>
            <a:ext cx="164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Whe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486400" y="3352680"/>
            <a:ext cx="1847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Where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914400" y="3581280"/>
            <a:ext cx="131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971800" y="3886200"/>
            <a:ext cx="19810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Shoul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334120" y="175248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oul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514600" y="4419720"/>
            <a:ext cx="16002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H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0" y="44197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d?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410080" y="5181480"/>
            <a:ext cx="1514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es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438280" y="1676520"/>
            <a:ext cx="9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o?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543800" y="2133720"/>
            <a:ext cx="961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n?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7696080" y="2895480"/>
            <a:ext cx="1143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re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848720" y="43434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s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0880" y="3200400"/>
            <a:ext cx="128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y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391520" y="5105520"/>
            <a:ext cx="13716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hich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819520" y="5257800"/>
            <a:ext cx="131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Wa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62120" y="5029200"/>
            <a:ext cx="14097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oul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09480" y="685800"/>
            <a:ext cx="7972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Question Words</a:t>
            </a:r>
            <a:endParaRPr b="0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962520" y="5791320"/>
            <a:ext cx="12380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re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1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55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5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84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84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1000"/>
                            </p:stCondLst>
                            <p:childTnLst>
                              <p:par>
                                <p:cTn id="8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3350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60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8500"/>
                            </p:stCondLst>
                            <p:childTnLst>
                              <p:par>
                                <p:cTn id="86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1000"/>
                            </p:stCondLst>
                            <p:childTnLst>
                              <p:par>
                                <p:cTn id="871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3500"/>
                            </p:stCondLst>
                            <p:childTnLst>
                              <p:par>
                                <p:cTn id="87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46000"/>
                            </p:stCondLst>
                            <p:childTnLst>
                              <p:par>
                                <p:cTn id="8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tchup"/>
              </a:rPr>
              <a:t>State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8288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statement is a telling sentence.                                It tells the reader someth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9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7913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tatement starts with a capital letter and ends with a perio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048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ample of a stat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65760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tchup"/>
              </a:rPr>
              <a:t>The ship sailed across the oce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8229600" cy="112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1028520" cy="77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9246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727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tchup"/>
              </a:rPr>
              <a:t>Ques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75248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question asks the reader something.                       It begins with a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question word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913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8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ample of a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0" y="5105520"/>
            <a:ext cx="1148040" cy="144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8080" y="365760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tchup"/>
              </a:rPr>
              <a:t>What color is the do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057400" cy="1498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5053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40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tchup"/>
              </a:rPr>
              <a:t>Ques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question can be answer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7913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43800" y="5105520"/>
            <a:ext cx="1147680" cy="144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8080" y="281952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tchup"/>
              </a:rPr>
              <a:t>What color is the do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90920" y="335268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19720" y="403848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33"/>
                </a:solidFill>
                <a:latin typeface="Arial"/>
              </a:rPr>
              <a:t>The dog is brow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5105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ask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3920" y="47242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 rot="391800">
            <a:off x="533520" y="2895120"/>
            <a:ext cx="167616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o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90920" y="3124080"/>
            <a:ext cx="2361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257800" y="3429000"/>
            <a:ext cx="164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Whe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486400" y="4038480"/>
            <a:ext cx="1847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Where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14400" y="4267080"/>
            <a:ext cx="131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971800" y="4572000"/>
            <a:ext cx="19810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Shoul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34120" y="243828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oul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5105520"/>
            <a:ext cx="16002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H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0" y="5105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d?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10080" y="5867280"/>
            <a:ext cx="1514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es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38280" y="2362320"/>
            <a:ext cx="9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o?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43800" y="2819520"/>
            <a:ext cx="961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n?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96080" y="3581280"/>
            <a:ext cx="1143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re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848720" y="50292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s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3886200"/>
            <a:ext cx="128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y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391520" y="5791320"/>
            <a:ext cx="13716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hich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19520" y="5943600"/>
            <a:ext cx="131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Wa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5715000"/>
            <a:ext cx="14097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oul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685800"/>
            <a:ext cx="7972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What are question words?</a:t>
            </a:r>
            <a:endParaRPr b="0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523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atchup"/>
              </a:rPr>
              <a:t>Here’s a f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62520" y="1905120"/>
            <a:ext cx="12380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re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500"/>
                            </p:stCondLst>
                            <p:childTnLst>
                              <p:par>
                                <p:cTn id="144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3500"/>
                            </p:stCondLst>
                            <p:childTnLst>
                              <p:par>
                                <p:cTn id="16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4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6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9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1500"/>
                            </p:stCondLst>
                            <p:childTnLst>
                              <p:par>
                                <p:cTn id="204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65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Let’s Practi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3809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tchup"/>
              </a:rPr>
              <a:t>Question  or 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107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118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125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137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138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140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The children ar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340000" cy="3048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3520" y="3048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680" y="411480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tells u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37080" y="464832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does not start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66360" y="19890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tement starts with a capital letter and ends with a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080" y="51055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not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91320" y="40384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5307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8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166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177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184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193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196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197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199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2860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The blue bird sings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3048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4680" y="411480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tells u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7080" y="464832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does not start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66360" y="19890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tement starts with a capital letter and ends with a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080" y="51055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not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633400" cy="2594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7529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225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236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243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1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252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255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256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258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2860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Where is the k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2895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ask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0960" y="46483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86840" y="1981080"/>
            <a:ext cx="4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59436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51055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2571840" cy="2971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876920" y="5334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tchup"/>
              </a:rPr>
              <a:t>The kitten is in the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907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3:11Z</dcterms:created>
  <dc:creator>mcaro</dc:creator>
  <dc:description/>
  <dc:language>en-US</dc:language>
  <cp:lastModifiedBy>Karen</cp:lastModifiedBy>
  <dcterms:modified xsi:type="dcterms:W3CDTF">2007-12-04T03:35:27Z</dcterms:modified>
  <cp:revision>31</cp:revision>
  <dc:subject/>
  <dc:title>Question  or  Statement?</dc:title>
</cp:coreProperties>
</file>